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C167-6F7C-45A8-9959-3DB7EFBA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60F-AFB0-4F41-80BF-EBFF5370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54F-95B9-41D4-B3C3-19579BE6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8E0-A2E4-4E8E-8E86-FF6E8612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3058-E653-46C6-8477-E5F16213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C9E5-086E-4EFC-B07D-8EAACB24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E34B-C7A0-497B-9B5F-5609E1E7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8D06-D6E3-4F93-9AFA-84AB85FE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DCF3-F91C-4968-B4BE-683E4772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3958-4468-4450-8FF2-8E81C959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261C-70F2-43A0-ADE6-EBAB1875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D8A-7C78-4796-8D8B-14553A47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DB1C-7F67-4C85-A209-3F1486D7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863B-3F8F-46BD-AAD9-0C325C35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4EAF-5E2C-47F4-8D48-7E0F5209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9FBA-C394-4769-973E-45465D50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9E23-18A0-4CB0-83C8-ED5BBE5E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9D6EF-AB57-4B77-86B9-EAF75C28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EA38E-53DC-4E35-82CD-A4FF120D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4DBDC-24F1-46E0-9D63-0AACE506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117B4-F520-43CA-8EE0-EE09C86A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C5DA3-0F60-40B0-9BE9-5D657B66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F63-0167-4E04-A596-B79CD8FB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089C0-D2E0-4EA2-8F81-22016F1A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73924-6092-4D5A-A12B-A6730465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6DD2F-6316-4962-ACD3-F896B155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6F18B-42A0-442B-AB35-E42843BE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1238D-51AC-4117-9392-6E901BC2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F331B-7A02-4F46-A07E-3B380374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2835A-76A0-4ED5-83CB-D9C5C153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2C339-9A2A-4450-8667-A6578C6A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87D56-74FE-4366-A1DD-AC1ADD5F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6936D-167A-492A-AF34-21601E92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08E-6B5F-4F3D-9746-B46AA0A8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FEB0E-2FD6-419B-BBB2-ECBD5635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43233-41CA-4C26-8A13-D17CC18C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FFA81-8F7F-4177-BCD1-8ACE3FFF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91944-6A90-4033-BC5F-AD126D34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F0AA5-AD39-4CE2-8DEA-89E46B5E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71F0F-BBDB-4B62-B049-1F99B2C2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5F900-78CC-4F7B-BB3B-C2D2ABFF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57060-C859-4904-8F43-BC8A87D7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8321C-1808-4151-B0FB-2D3B01FC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166E1-6451-4B30-B519-33557786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DFA6-308E-4854-BAD4-ABA71799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896B1-67DA-451F-9790-6434D6F5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AD367-9C32-40AB-8ACC-479D96B0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B1078-EA04-4777-9B9F-987BDD0E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74FB4-7459-4613-B270-D34A4CB0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B4AF1-E464-493F-8054-CD4198BB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1A279-9774-44D7-986C-309CDEC8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DE5AE-1D89-4EAE-86E6-486B3E44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1DFFD-6BE1-4539-BE26-8B1186B5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19DD7-2CF4-4164-B7E2-880B405E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2D9C0-6328-480E-AF74-CC0C2B42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0EA-2787-43D6-97B9-865427CF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22A4E-0BA8-4818-9B25-4E3AA30E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6AA6E-4510-433E-83B0-4A61D6FE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AA47B-A4AC-4CCC-9E88-2CCCB190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85C58-53B4-4003-92AD-6114E52A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92E67-C38C-45E6-9844-D0686F53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B2BBD-4B5B-4E5E-82F5-545C59D4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6F483-CD52-4B11-9F31-BA831AAB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80522-ED2B-4F2F-9DFD-CA7FE2F2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EDE4F-9887-440A-B288-3E990A1B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D7916-A335-4C32-88A8-C6065D48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3FA-37AD-4D7E-ADAA-CB93B926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28938-865F-455F-9274-EC982B4A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A6C12-C79E-4E8D-9EF6-580A253C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E758A-01B0-4D25-8B09-443D3A13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C5E27-9E83-40E2-9A56-C64FC9ED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92E7D-DC7E-40EA-8151-7AAED08B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1E974-A564-46E7-B1FF-C74755E1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2A6F2-151E-417C-9F1B-C9578270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CF079-7949-4554-92C3-C5243EBE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D0AC2-F3BB-484D-B234-2624CF2B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3FABC-0D6D-4467-8EAE-A956D597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E789-847D-42E6-B512-47172F77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18DA2-C937-4540-8D15-FCF4EAD2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06CC1-CD97-42FE-850A-BE57E3A6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99B6D-7978-42CA-B3E1-55C7AB01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3CD8F-F9A7-4CB3-82E3-A20CE473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BD3DF-FED9-425E-8EA8-B08FBBA7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D821-C63C-48D6-BB6C-E473D03D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A83E-03DA-4F97-BF24-DE538443070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41FE-65FB-4558-B48A-7223FA218AF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ECF6-5FD7-49EB-AF39-C9A0A681E0C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48C4-9B2A-42DD-8991-8FD66A9DF94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596D-65D8-40EB-9846-73034FF786F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4280-E62E-44F1-8F49-118056B4339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3CD6-4815-4FA0-B78B-E73E4CFF4C5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nglish Sentenc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S + V + 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and a complete ide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ansitive Verb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verbs such as go and arrive can never have an object after th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correct- Ivonne goes piano clas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rrect- Ivonne enjoys piano clas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rrect- Ivonne goes to piano clas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d the verbs of all of your sentenc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bj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jects are the person or thing after the verb. The object receives the action of the verb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jects are nouns or pronou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jects can include an adjective or modifi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ndra has a beautiful white c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ther information may follow the objec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ndra has a white car in her drivew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d the objects of each of your sentenc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erb to B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ttern 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       Be     Adjec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tuna salad is deliciou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ttern 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       Be              Nou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tuna salad is a delicious dis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ttern 3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     Be      Place Phr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tuna salad is on the tab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tuna salad is in the refrigerato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re + B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ttern 4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subject follows the verb to 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i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 tuna salad sandwich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 the tab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we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two empty plate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 the table this mor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wa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 big sale on canned tuna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week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re + B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ttern 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tra Information: Place or Ti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is a tuna salad sandwich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on the tabl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were two empty plate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on the table </a:t>
            </a:r>
            <a:r>
              <a:rPr b="0" lang="en-US" sz="3200" spc="-1" strike="noStrike">
                <a:solidFill>
                  <a:srgbClr val="0070c0"/>
                </a:solidFill>
                <a:latin typeface="Gill Sans MT"/>
              </a:rPr>
              <a:t>this mor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was a big sale on canned tuna </a:t>
            </a:r>
            <a:r>
              <a:rPr b="0" lang="en-US" sz="3200" spc="-1" strike="noStrike">
                <a:solidFill>
                  <a:srgbClr val="0070c0"/>
                </a:solidFill>
                <a:latin typeface="Gill Sans MT"/>
              </a:rPr>
              <a:t>last week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you have any of the there + be patterns in your paragraph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d th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 + V +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bject + Verb + Object + Other Inform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aleria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Gill Sans MT"/>
              </a:rPr>
              <a:t>play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58d01"/>
                </a:solidFill>
                <a:latin typeface="Gill Sans MT"/>
              </a:rPr>
              <a:t>the piano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l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Sh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Gill Sans MT"/>
              </a:rPr>
              <a:t>practic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58d01"/>
                </a:solidFill>
                <a:latin typeface="Gill Sans MT"/>
              </a:rPr>
              <a:t>the piano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veryd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Win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Gill Sans MT"/>
              </a:rPr>
              <a:t>lik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58d01"/>
                </a:solidFill>
                <a:latin typeface="Gill Sans MT"/>
              </a:rPr>
              <a:t>classical music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lo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Sh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Gill Sans MT"/>
              </a:rPr>
              <a:t>enjoy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58d01"/>
                </a:solidFill>
                <a:latin typeface="Gill Sans MT"/>
              </a:rPr>
              <a:t>listen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German musi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or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nglish sentences must begin with a capital letter and end with a perio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dy likes ESL 183RW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cki teaches ESL classes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all your sentences begin with a capital letter and end with a perio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 + V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bject + Verb + (Object) + Other Inform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       V          Oth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ven plays extremely wel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 practices for three hour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ven goes to piano class every d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ubj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bject- the person or thing  that does the action, the who or what you are talking abou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bjects are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uns or pronou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igi likes musi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enjoys classical musi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bjects a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prepositional phras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correct- In piano class is learning musi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ubj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ound subjects- more than 1 person or th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essie and Helen like musi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essie, Helen, and Vicki like musi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essie and I enjoy listening to musi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ubj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omplete subject can include adjectives, modifiers, and prepositional phras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mazing teacher of the ESL class enjoys teach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ny ugly dogs on the playground destroyed the flower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t, the simple subject is still the person or thing you are talking abou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d the subjects of all of your sentenc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ransitive Verb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verbs such as like and enjoy must have an object after th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correct- Najia likes a lo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rrect- Najia likes music a lo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dictionary will tell if a verb is transitive or no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20:35:11Z</dcterms:created>
  <dc:creator> </dc:creator>
  <dc:description/>
  <dc:language>en-US</dc:language>
  <cp:lastModifiedBy> </cp:lastModifiedBy>
  <dcterms:modified xsi:type="dcterms:W3CDTF">2010-03-09T21:28:00Z</dcterms:modified>
  <cp:revision>1</cp:revision>
  <dc:subject/>
  <dc:title>English Sentences</dc:title>
</cp:coreProperties>
</file>